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F98-7973-403E-B086-0A78328D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F55-76D8-4D21-B700-BE264BA4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71D-CA98-4CDA-A727-6BFEDF6F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3DA-2CC6-4CB1-988E-EFE511B1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F93-3B02-44F6-B912-DC43A967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7E2-6D45-42A1-8E4D-17836553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312-3657-40FC-9543-D5B7AFBB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E7F-900B-4CC8-AA26-E196A46C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46F-AB95-4426-9D87-58820C62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B3E-64C4-4EE0-9708-CF4C6145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D09-6491-4D5B-9ABB-AF6EBFAA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CB1-17F3-4B44-A42C-F24F5B70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7AEA-D5CD-4C2D-BDB8-5AEB4A3BB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038920" cy="1362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50920" y="5410080"/>
            <a:ext cx="503856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276640"/>
            <a:ext cx="792144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000000"/>
                </a:solidFill>
                <a:latin typeface="Arial"/>
              </a:rPr>
              <a:t>Welcome back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 2 - Janu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1925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457200" y="1925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925640"/>
          <a:ext cx="9144000" cy="319104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2880"/>
                <a:gridCol w="1714680"/>
                <a:gridCol w="1714320"/>
                <a:gridCol w="573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FIRST DAY B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Last day: Camb exam sign 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Dept mt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YL –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assessed less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YL-Mixed Abilities (Clai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Jóvenes written ex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Jóvenes written ex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YL-VYL Storytelling (J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TST Feedback (E&amp;Y, Sermergen, Cy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Parents’ E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Parents’ E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1547640" y="3141720"/>
            <a:ext cx="53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 2 - Febru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457200" y="1574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233280" y="13921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66840" y="3105000"/>
            <a:ext cx="6219720" cy="0"/>
          </a:xfrm>
          <a:prstGeom prst="line">
            <a:avLst/>
          </a:prstGeom>
          <a:ln cap="rnd"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6360" y="1628640"/>
          <a:ext cx="9144000" cy="4073760"/>
        </p:xfrm>
        <a:graphic>
          <a:graphicData uri="http://schemas.openxmlformats.org/drawingml/2006/table">
            <a:tbl>
              <a:tblPr/>
              <a:tblGrid>
                <a:gridCol w="1839960"/>
                <a:gridCol w="1843200"/>
                <a:gridCol w="1839600"/>
                <a:gridCol w="1843200"/>
                <a:gridCol w="1284480"/>
                <a:gridCol w="493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TBL-1 (Mik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TBL-2 (Mik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H And. DoS Mtg - Cad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1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YL –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assessed les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Extensive exams-Day1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Lexical App (Clai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Extensive exams-Day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Extensive exams-Day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Extensive exams-Day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Extensive exams-Day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Day off – Andalucía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619280" y="3573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 2 - M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457200" y="1058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457200" y="9669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677960"/>
          <a:ext cx="9036000" cy="4559400"/>
        </p:xfrm>
        <a:graphic>
          <a:graphicData uri="http://schemas.openxmlformats.org/drawingml/2006/table">
            <a:tbl>
              <a:tblPr/>
              <a:tblGrid>
                <a:gridCol w="1386360"/>
                <a:gridCol w="1851480"/>
                <a:gridCol w="1843200"/>
                <a:gridCol w="1428840"/>
                <a:gridCol w="1708920"/>
                <a:gridCol w="817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FCE Exam Pr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Common Spanish Errors (Mik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Last day-Exam intens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FCE Exam Pr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YL-Games n YL Classroom (Clai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FCE Ex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Tes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PET/CAE Exam Pr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PET/CAE Exam Pr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Conference practice sess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CAE/PET Ex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Abener reports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Jóvenes reports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No TD s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H And. Con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16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nt 2.0 exams (a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ntensive Exam-Day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nt 2.0 exams (a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nt 2.0 exams (p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ntensive Exam-Day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nt 2.0 exams (p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Level Recommen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ntensives-Final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Last day of te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0684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 2 TD s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 for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D in clic &amp;/or for the IH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vidual or 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to 1 1/2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get paid for it!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titles by T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D plan sent out T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96320" y="90792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8560" y="1916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773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1844640"/>
            <a:ext cx="69120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w offic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D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ptops / Spe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WB 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CE/CAE Exam book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ltimedia Room /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aff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96320" y="90792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98560" y="1916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773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844640"/>
            <a:ext cx="691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rah/Ceri/Janneke/Su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496320" y="90792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98560" y="1916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773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1844640"/>
            <a:ext cx="6696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H Do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g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1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H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H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cMillan Online 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be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69608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by, Mark, Patrick, Blue, Sandra, James, Elena, Tim, Trish, Rob S, Laura, Lucy, Joanna, Ollie, Bernie, Ian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7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19:59Z</dcterms:created>
  <dc:creator>CDobson</dc:creator>
  <dc:description/>
  <dc:language>en-US</dc:language>
  <cp:lastModifiedBy>BRoberts</cp:lastModifiedBy>
  <dcterms:modified xsi:type="dcterms:W3CDTF">2012-01-13T12:00:35Z</dcterms:modified>
  <cp:revision>125</cp:revision>
  <dc:subject/>
  <dc:title>Diapositiva 1</dc:title>
</cp:coreProperties>
</file>